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C1E-D50F-4FD1-9BD3-0CDE385D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25A-EA7D-45D4-8A25-9871B4D9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554-3ACA-4FDC-8254-C1B24A33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620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16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620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16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D04-D288-4678-A47B-9FA34AC0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0F9-0B34-4E91-B477-0D4F3DD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DD5-79BE-47EE-BCE2-1D1C46FE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A9C-AB4C-4F8E-BA38-5F2D8EE9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461-E462-4279-8F05-C75C19F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2240" y="974880"/>
            <a:ext cx="932832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956-0011-4DCC-B1A5-5591457F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7A2-6068-4E9C-BC64-3399F11F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F98-452B-4160-B976-EFCF522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3C0-FF59-41DE-9B4D-DBACE89F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marL="469800" indent="-469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19160" indent="-3920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566720" indent="-312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193840" indent="-3124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224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7560"/>
            <a:ext cx="347328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fld id="{463D1AE5-3B31-44D3-BECB-0A103EE4E488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111480"/>
            <a:ext cx="10683720" cy="786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rot="18900000">
            <a:off x="7762680" y="-650880"/>
            <a:ext cx="228600" cy="72583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258320"/>
              <a:gd name="textAreaBottom" fmla="*/ 7224840 h 7258320"/>
            </a:gdLst>
            <a:ahLst/>
            <a:rect l="textAreaLeft" t="textAreaTop" r="textAreaRight" b="textAreaBottom"/>
            <a:pathLst>
              <a:path w="21600" h="684781">
                <a:moveTo>
                  <a:pt x="10800" y="0"/>
                </a:moveTo>
                <a:arcTo wR="10800" hR="10800" stAng="16200000" swAng="-5400000"/>
                <a:lnTo>
                  <a:pt x="0" y="673981"/>
                </a:lnTo>
                <a:arcTo wR="10800" hR="10800" stAng="10800000" swAng="-5400000"/>
                <a:lnTo>
                  <a:pt x="10800" y="684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rot="18900000">
            <a:off x="6339240" y="564120"/>
            <a:ext cx="228600" cy="58212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821200"/>
              <a:gd name="textAreaBottom" fmla="*/ 5787720 h 5821200"/>
            </a:gdLst>
            <a:ahLst/>
            <a:rect l="textAreaLeft" t="textAreaTop" r="textAreaRight" b="textAreaBottom"/>
            <a:pathLst>
              <a:path w="21600" h="549204">
                <a:moveTo>
                  <a:pt x="10800" y="0"/>
                </a:moveTo>
                <a:arcTo wR="10800" hR="10800" stAng="16200000" swAng="-5400000"/>
                <a:lnTo>
                  <a:pt x="0" y="538404"/>
                </a:lnTo>
                <a:arcTo wR="10800" hR="10800" stAng="10800000" swAng="-5400000"/>
                <a:lnTo>
                  <a:pt x="10800" y="5492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18900000">
            <a:off x="4701960" y="1773000"/>
            <a:ext cx="228600" cy="392796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927960"/>
              <a:gd name="textAreaBottom" fmla="*/ 3894480 h 3927960"/>
            </a:gdLst>
            <a:ahLst/>
            <a:rect l="textAreaLeft" t="textAreaTop" r="textAreaRight" b="textAreaBottom"/>
            <a:pathLst>
              <a:path w="21600" h="370596">
                <a:moveTo>
                  <a:pt x="10800" y="0"/>
                </a:moveTo>
                <a:arcTo wR="10800" hR="10800" stAng="16200000" swAng="-5400000"/>
                <a:lnTo>
                  <a:pt x="0" y="359796"/>
                </a:lnTo>
                <a:arcTo wR="10800" hR="10800" stAng="10800000" swAng="-5400000"/>
                <a:lnTo>
                  <a:pt x="10800" y="3705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700000">
            <a:off x="4777200" y="4028760"/>
            <a:ext cx="228600" cy="1712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1712520"/>
              <a:gd name="textAreaBottom" fmla="*/ 1679040 h 1712520"/>
            </a:gdLst>
            <a:ahLst/>
            <a:rect l="textAreaLeft" t="textAreaTop" r="textAreaRight" b="textAreaBottom"/>
            <a:pathLst>
              <a:path w="21600" h="161592">
                <a:moveTo>
                  <a:pt x="10800" y="0"/>
                </a:moveTo>
                <a:arcTo wR="10800" hR="10800" stAng="16200000" swAng="-5400000"/>
                <a:lnTo>
                  <a:pt x="0" y="150792"/>
                </a:lnTo>
                <a:arcTo wR="10800" hR="10800" stAng="10800000" swAng="-5400000"/>
                <a:lnTo>
                  <a:pt x="10800" y="1615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700000">
            <a:off x="2827800" y="-609480"/>
            <a:ext cx="228600" cy="70848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084800"/>
              <a:gd name="textAreaBottom" fmla="*/ 7051320 h 7084800"/>
            </a:gdLst>
            <a:ahLst/>
            <a:rect l="textAreaLeft" t="textAreaTop" r="textAreaRight" b="textAreaBottom"/>
            <a:pathLst>
              <a:path w="21600" h="668411">
                <a:moveTo>
                  <a:pt x="10800" y="0"/>
                </a:moveTo>
                <a:arcTo wR="10800" hR="10800" stAng="16200000" swAng="-5400000"/>
                <a:lnTo>
                  <a:pt x="0" y="657611"/>
                </a:lnTo>
                <a:arcTo wR="10800" hR="10800" stAng="10800000" swAng="-5400000"/>
                <a:lnTo>
                  <a:pt x="10800" y="6684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2700000">
            <a:off x="3299760" y="2895120"/>
            <a:ext cx="228600" cy="310068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100680"/>
              <a:gd name="textAreaBottom" fmla="*/ 3067200 h 3100680"/>
            </a:gdLst>
            <a:ahLst/>
            <a:rect l="textAreaLeft" t="textAreaTop" r="textAreaRight" b="textAreaBottom"/>
            <a:pathLst>
              <a:path w="21600" h="292551">
                <a:moveTo>
                  <a:pt x="10800" y="0"/>
                </a:moveTo>
                <a:arcTo wR="10800" hR="10800" stAng="16200000" swAng="-5400000"/>
                <a:lnTo>
                  <a:pt x="0" y="281751"/>
                </a:lnTo>
                <a:arcTo wR="10800" hR="10800" stAng="10800000" swAng="-5400000"/>
                <a:lnTo>
                  <a:pt x="10800" y="2925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700000">
            <a:off x="7214760" y="268704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b4"/>
                </a:solidFill>
                <a:latin typeface="Geneva"/>
              </a:rPr>
              <a:t>Tools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700000">
            <a:off x="4465440" y="2579040"/>
            <a:ext cx="502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6b08"/>
                </a:solidFill>
                <a:latin typeface="Geneva"/>
              </a:rPr>
              <a:t>Evolution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00000">
            <a:off x="3776760" y="2803320"/>
            <a:ext cx="30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Geneva"/>
              </a:rPr>
              <a:t>B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86800" y="8839080"/>
            <a:ext cx="2209680" cy="206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6560" y="8763120"/>
            <a:ext cx="686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323232"/>
                </a:solidFill>
                <a:latin typeface="Arial"/>
              </a:rPr>
              <a:t>Hackatho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4:33:58Z</dcterms:created>
  <dc:creator>GMOD / NESCent</dc:creator>
  <dc:description/>
  <dc:language>en-US</dc:language>
  <cp:lastModifiedBy>GMOD / NESCent</cp:lastModifiedBy>
  <dcterms:modified xsi:type="dcterms:W3CDTF">2010-06-22T22:08:14Z</dcterms:modified>
  <cp:revision>14</cp:revision>
  <dc:subject/>
  <dc:title>PowerPoint Presentation</dc:title>
</cp:coreProperties>
</file>